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njujain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9-05-21T16:47:39.081000000" idx="1">
    <p:pos x="5580" y="1556"/>
    <p:text>Cut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8297-5FBA-4B7C-881E-2B5631587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DF6A-BC34-493A-8A07-E9DA6B397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3DF2-E3E4-4502-A99B-E4AE7D931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5723-0E37-41AF-B0B4-06174EBD2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C25C4-E05F-493F-BDB5-C074E63A0F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4947-6F07-440E-8E03-F18D338BEE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D328-7363-4E00-B2CD-0902E32286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15CE-1A8B-46ED-B0B3-ED82A64FFB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B16E-9876-4BC5-A7FA-2D5942DE2F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7C11F-1B7B-4FA9-9CDA-D2E7D5C85E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582FF-9407-4FFE-8518-72F73331CE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E3B6-8898-488D-80C7-7FB4F442F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5CA8-FA8E-4142-81D2-D9034C8FE3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D040-92E9-4988-A509-921A4E99E9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CC36-0305-4DC9-A24C-572872DA0E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B7F9-3600-4551-9ABF-AF1F787408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40808-EE73-40BC-86C8-3897E7B14E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271-2054-4688-A6AC-77F44A5A75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0AF-45B7-4058-AC72-AFD0FD505D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AD1D-F3D3-44F1-AF4E-01F81554A1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795-D218-4468-A0A6-6B9713BDE2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B21A-F685-45B7-888C-4514077FE4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8133-404C-425C-97E3-9B8680B239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F72-AF46-4F0D-90EB-BFDFD6AF49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34F-124C-4CC5-8B92-A3B1766B4A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008-4CA9-4C2B-9115-544315E6AB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674-B9A8-49CE-82EF-3D336BA373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B91-4C50-4CFA-93C8-4A6D6F18F5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735-68E9-4122-BC9B-2E11FF61C5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08C5-62CF-440D-BAA9-A0525D4311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6F2C7-3B22-42B5-BA4E-DBA80B4E1C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17B9E-BD95-4FB2-90EF-1A7E0135F8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858C6-6DE3-40AE-8088-795B3198F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8891-EF6C-4D19-B57A-61393BF0F4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D22F6-29D1-45BF-958F-138343C806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2FD1E-DAAA-4708-A0FF-0450C11B7C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16427-D5C0-4E4D-8266-158410C485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8BEB3-5A3B-4ECE-B48F-23AD4FE4A4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9805D-3636-4FE0-B1DC-ACF62563F3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ACAB0-B061-41FC-8DE4-22AC48F3CB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61F0C-6145-4006-9EA4-E975B8BF27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7429B-FDA0-4613-BB58-86CFF7D79C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0F7C2-17E7-4177-8E33-899D926E1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FEC8-EBD0-48CC-93E5-9D60A9F85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ED12-3E40-4986-A086-98240EB9B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2961-123F-4FCD-AE7E-7FA7A7F98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E334-D182-4178-AF98-624FEE2D7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81BD-16BD-4693-BD3F-D5A3DB95A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ape 2"/>
          <p:cNvSpPr/>
          <p:nvPr/>
        </p:nvSpPr>
        <p:spPr>
          <a:xfrm>
            <a:off x="-9360" y="-7920"/>
            <a:ext cx="9162720" cy="1042920"/>
          </a:xfrm>
          <a:prstGeom prst="pie">
            <a:avLst/>
          </a:prstGeom>
          <a:gradFill rotWithShape="0">
            <a:gsLst>
              <a:gs pos="0">
                <a:srgbClr val="0073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Shape 3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" name="Shape 3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1560" y="-792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6"/>
          <p:cNvGrpSpPr/>
          <p:nvPr/>
        </p:nvGrpSpPr>
        <p:grpSpPr>
          <a:xfrm>
            <a:off x="-48600" y="-234720"/>
            <a:ext cx="9232200" cy="1496520"/>
            <a:chOff x="-48600" y="-234720"/>
            <a:chExt cx="9232200" cy="1496520"/>
          </a:xfrm>
        </p:grpSpPr>
        <p:sp>
          <p:nvSpPr>
            <p:cNvPr id="5" name="Shape 4"/>
            <p:cNvSpPr/>
            <p:nvPr/>
          </p:nvSpPr>
          <p:spPr>
            <a:xfrm rot="21435600">
              <a:off x="-28440" y="-15840"/>
              <a:ext cx="9178920" cy="1058760"/>
            </a:xfrm>
            <a:prstGeom prst="pie">
              <a:avLst/>
            </a:prstGeom>
            <a:noFill/>
            <a:ln w="10800">
              <a:solidFill>
                <a:srgbClr val="05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Shape 5"/>
            <p:cNvSpPr/>
            <p:nvPr/>
          </p:nvSpPr>
          <p:spPr>
            <a:xfrm rot="21435600">
              <a:off x="-23400" y="108720"/>
              <a:ext cx="9191520" cy="86652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60240" indent="-266400"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73080" indent="-304920"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51000" indent="-27324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25680" indent="-27324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25680" indent="-27324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25680" indent="-27324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521200" y="6513480"/>
            <a:ext cx="16524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D6F2-D0E6-4321-BF17-A7504F122CB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hape 2"/>
          <p:cNvSpPr/>
          <p:nvPr/>
        </p:nvSpPr>
        <p:spPr>
          <a:xfrm>
            <a:off x="-9360" y="-7920"/>
            <a:ext cx="9162720" cy="1042920"/>
          </a:xfrm>
          <a:prstGeom prst="pie">
            <a:avLst/>
          </a:prstGeom>
          <a:gradFill rotWithShape="0">
            <a:gsLst>
              <a:gs pos="0">
                <a:srgbClr val="0073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Shape 3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48" name="Shape 3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81560" y="-792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6"/>
          <p:cNvGrpSpPr/>
          <p:nvPr/>
        </p:nvGrpSpPr>
        <p:grpSpPr>
          <a:xfrm>
            <a:off x="-48600" y="-234720"/>
            <a:ext cx="9232200" cy="1496520"/>
            <a:chOff x="-48600" y="-234720"/>
            <a:chExt cx="9232200" cy="1496520"/>
          </a:xfrm>
        </p:grpSpPr>
        <p:sp>
          <p:nvSpPr>
            <p:cNvPr id="51" name="Shape 4"/>
            <p:cNvSpPr/>
            <p:nvPr/>
          </p:nvSpPr>
          <p:spPr>
            <a:xfrm rot="21435600">
              <a:off x="-28440" y="-15840"/>
              <a:ext cx="9178920" cy="1058760"/>
            </a:xfrm>
            <a:prstGeom prst="pie">
              <a:avLst/>
            </a:prstGeom>
            <a:noFill/>
            <a:ln w="10800">
              <a:solidFill>
                <a:srgbClr val="05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Shape 5"/>
            <p:cNvSpPr/>
            <p:nvPr/>
          </p:nvSpPr>
          <p:spPr>
            <a:xfrm rot="21435600">
              <a:off x="-23400" y="108720"/>
              <a:ext cx="9191520" cy="86652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60240" indent="-266400"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73080" indent="-304920"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51000" indent="-27324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25680" indent="-27324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25680" indent="-27324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25680" indent="-27324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8521200" y="6513480"/>
            <a:ext cx="16524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EA7D-B1D6-4159-BCFE-2B99462AC768}" type="slidenum"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hape 2"/>
          <p:cNvSpPr/>
          <p:nvPr/>
        </p:nvSpPr>
        <p:spPr>
          <a:xfrm>
            <a:off x="-9360" y="-7920"/>
            <a:ext cx="9162720" cy="1042920"/>
          </a:xfrm>
          <a:prstGeom prst="pie">
            <a:avLst/>
          </a:prstGeom>
          <a:gradFill rotWithShape="0">
            <a:gsLst>
              <a:gs pos="0">
                <a:srgbClr val="0073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Shape 3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94" name="Shape 3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381560" y="-792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"/>
          <p:cNvGrpSpPr/>
          <p:nvPr/>
        </p:nvGrpSpPr>
        <p:grpSpPr>
          <a:xfrm>
            <a:off x="-48600" y="-234720"/>
            <a:ext cx="9232200" cy="1496520"/>
            <a:chOff x="-48600" y="-234720"/>
            <a:chExt cx="9232200" cy="1496520"/>
          </a:xfrm>
        </p:grpSpPr>
        <p:sp>
          <p:nvSpPr>
            <p:cNvPr id="97" name="Shape 4"/>
            <p:cNvSpPr/>
            <p:nvPr/>
          </p:nvSpPr>
          <p:spPr>
            <a:xfrm rot="21435600">
              <a:off x="-28440" y="-15840"/>
              <a:ext cx="9178920" cy="1058760"/>
            </a:xfrm>
            <a:prstGeom prst="pie">
              <a:avLst/>
            </a:prstGeom>
            <a:noFill/>
            <a:ln w="10800">
              <a:solidFill>
                <a:srgbClr val="05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hape 5"/>
            <p:cNvSpPr/>
            <p:nvPr/>
          </p:nvSpPr>
          <p:spPr>
            <a:xfrm rot="21435600">
              <a:off x="-23400" y="108720"/>
              <a:ext cx="9191520" cy="86652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60240" indent="-266400"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73080" indent="-304920"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51000" indent="-27324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25680" indent="-27324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25680" indent="-27324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25680" indent="-27324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3"/>
          </p:nvPr>
        </p:nvSpPr>
        <p:spPr>
          <a:xfrm>
            <a:off x="8521200" y="6513480"/>
            <a:ext cx="16524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A0C8-7B0D-4BC1-9E5A-569FADDCD0C2}" type="slidenum"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hape 79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80"/>
          <p:cNvSpPr/>
          <p:nvPr/>
        </p:nvSpPr>
        <p:spPr>
          <a:xfrm flipV="1" rot="420000">
            <a:off x="8003880" y="5358960"/>
            <a:ext cx="155520" cy="15552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hape 84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3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Shape 85"/>
          <p:cNvGrpSpPr/>
          <p:nvPr/>
        </p:nvGrpSpPr>
        <p:grpSpPr>
          <a:xfrm>
            <a:off x="4376880" y="6242040"/>
            <a:ext cx="4773600" cy="622440"/>
            <a:chOff x="4376880" y="6242040"/>
            <a:chExt cx="4773600" cy="622440"/>
          </a:xfrm>
        </p:grpSpPr>
        <p:pic>
          <p:nvPicPr>
            <p:cNvPr id="142" name="Shape 85" descr=""/>
            <p:cNvPicPr/>
            <p:nvPr/>
          </p:nvPicPr>
          <p:blipFill>
            <a:blip r:embed="rId3"/>
            <a:stretch/>
          </p:blipFill>
          <p:spPr>
            <a:xfrm>
              <a:off x="4376880" y="6242040"/>
              <a:ext cx="47736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rot="10800000">
              <a:off x="4381200" y="624960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60240" indent="-266400"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73080" indent="-304920"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51000" indent="-27324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25680" indent="-27324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25680" indent="-27324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25680" indent="-27324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4"/>
          </p:nvPr>
        </p:nvSpPr>
        <p:spPr>
          <a:xfrm>
            <a:off x="8521200" y="6513480"/>
            <a:ext cx="16524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6A9F-DA13-4AF5-8ACF-5C2C70E44B1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71476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000" spc="-1" strike="noStrike">
                <a:solidFill>
                  <a:srgbClr val="ffffff"/>
                </a:solidFill>
                <a:latin typeface="Calibri"/>
              </a:rPr>
              <a:t>கணிதம்கற்பித்தல்முறை </a:t>
            </a:r>
            <a:br>
              <a:rPr sz="3900"/>
            </a:br>
            <a:r>
              <a:rPr b="1" lang="en-US" sz="3900" spc="-1" strike="noStrike">
                <a:solidFill>
                  <a:srgbClr val="ffffff"/>
                </a:solidFill>
                <a:latin typeface="Calibri"/>
              </a:rPr>
              <a:t>(Pedagogy of Mathematics – Upper Primary)</a:t>
            </a:r>
            <a:br>
              <a:rPr sz="3900"/>
            </a:br>
            <a:endParaRPr b="0" lang="en-US" sz="3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14280"/>
            <a:ext cx="847728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ta-IN" sz="2400" spc="-1" strike="noStrike">
                <a:solidFill>
                  <a:srgbClr val="04617b"/>
                </a:solidFill>
                <a:latin typeface="Calibri"/>
              </a:rPr>
              <a:t>கணிதத்தின் தன்மைகளைப் புரிந்துகொள்ளுதல்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13920" y="958680"/>
            <a:ext cx="862020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404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ணிதமானது தனக்கே உரித்தான மொழியைக் கொண்ட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எ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ா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ணித கருத்துகள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உறுப்புகள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ுறியீடுகள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சூத்திரங்கள் மற்றும் கொள்கைகள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04640" indent="-404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ணித கருத்துகள் உலகம் முழுமைக்கும் ஒத்தவை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04640" indent="-404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ணிதம் என்பது ஒரு துல்லியமான அறிவியலாகும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இது மிக துல்லிய தன்மையும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தர்க்கரீதியான அணுகல் தன்மை மற்றும் விதியின் படி முறைப்படுத்த தன்மை ஆகியவற்றை உள்ளடக்கிய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04640" indent="-404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இது விதிவரு மற்றும் விதி விளக்க முறையைக் கொண்டிருப்பதோடு பொதுமைப்படுத்தவும் உதவுகிற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04640" indent="-404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இஃது அறிவியல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பொறியியல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மருத்துவம் மற்றும் சமூக அறிவியல் உள்ளிட்ட பல துறைகளில் முக்கிய கருவியாக உலகம் முழுவதும் பயன்படுத்தப்படுகிற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046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rcRect l="33175" t="23076" r="14263" b="18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Constantia"/>
              </a:rPr>
              <a:t>தொடக்க நிலையில் கணிதம்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(Mathematics at  Primary Level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பல்வேறு கருத்துகளைக் கற்பித்தல் மூலம் அவர்களின் திறமைகள் மற்றும் திறன்கள் வளர்க்க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வரிசைப்படுத்தப்பட்ட  செயல்பாடுகளை இந்த நிலையில் உள்ள கற்பித்தல் முறை உள்ளடக்கியுள்ளது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900" spc="-1" strike="noStrike">
                <a:solidFill>
                  <a:srgbClr val="000000"/>
                </a:solidFill>
                <a:latin typeface="Constantia"/>
              </a:rPr>
              <a:t>அனுபவங்கள்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(Experiences)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900" spc="-1" strike="noStrike">
                <a:solidFill>
                  <a:srgbClr val="000000"/>
                </a:solidFill>
                <a:latin typeface="Constantia"/>
              </a:rPr>
              <a:t>புதிய கருத்தை கற்றுத் தருவதற்குக் காட்சிப் பொருள்கள்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900" spc="-1" strike="noStrike">
                <a:solidFill>
                  <a:srgbClr val="000000"/>
                </a:solidFill>
                <a:latin typeface="Constantia"/>
              </a:rPr>
              <a:t>விளையாட்டுப் பொருள்கள்</a:t>
            </a:r>
            <a:r>
              <a:rPr b="0" lang="ta-IN" sz="19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900" spc="-1" strike="noStrike">
                <a:solidFill>
                  <a:srgbClr val="000000"/>
                </a:solidFill>
                <a:latin typeface="Constantia"/>
              </a:rPr>
              <a:t>கற்றல் உபகரணங்கள் ஆகியவற்றைக் கையாளுதல் போன்ற நிறைய அனுபவங்கள் அளித்திட வேண்டும்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900" spc="-1" strike="noStrike">
                <a:solidFill>
                  <a:srgbClr val="000000"/>
                </a:solidFill>
                <a:latin typeface="Constantia"/>
              </a:rPr>
              <a:t>இந்நிலையில்</a:t>
            </a:r>
            <a:r>
              <a:rPr b="0" lang="ta-IN" sz="19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900" spc="-1" strike="noStrike">
                <a:solidFill>
                  <a:srgbClr val="000000"/>
                </a:solidFill>
                <a:latin typeface="Constantia"/>
              </a:rPr>
              <a:t>பெறும் அனுபவங்கள் வகுப்பறைகளின் உள் மற்றும் வெளி செயல்பாடுகளுடன் வலுவான ஓர் இணைப்பைக் கொண்டனவாக இருக்கவேண்டும்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98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Constantia"/>
              </a:rPr>
              <a:t>தொடக்க நிலையில் கணிதம்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(Mathematics at  Primary Level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ta-IN" sz="2200" spc="-1" strike="noStrike">
                <a:solidFill>
                  <a:srgbClr val="000000"/>
                </a:solidFill>
                <a:latin typeface="Constantia"/>
              </a:rPr>
              <a:t>மொழ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Language)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மாணவர்கள் அனைவருக்கும் தங்கள் அனுபவங்கள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உற்று நோக்கியவை மற்றும் கருதுகோள்கள் ஆகியவற்றை வாய்மொழியாக விளக்குவதற்கு உரிய வாய்ப்புகளை அளித்திடவேண்டும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இவ்வாறு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மாணவர்கள் கலந்துரையாடல் செய்யும்போது மொழித் திறன்களான கேள்வி அமைத்தல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புதிய சொற்கள் மற்றும் பாடம் தொடர்பான அறிமுக சொற்களைப் பெற்று இருத்தல் ஆகியவையும் வளர்கின்ற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600" spc="-1" strike="noStrike">
                <a:solidFill>
                  <a:srgbClr val="000000"/>
                </a:solidFill>
                <a:latin typeface="Constantia"/>
              </a:rPr>
              <a:t>தொடக்க நிலையில் கணிதம்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(Mathematics at  Primary Level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Constantia"/>
              </a:rPr>
              <a:t>படவிளக்கம்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(Pictorial presentatio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கணக்குகளை வெளிப்படுத்தும் படத்தினைப் புரிந்து கொள்வதற்கும் அது தொடர்பான தகவல்களைப் பெறுவதற்கும் மாணவர்களைத் தயார் செய்தல் வேண்டும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அத்தகைய படங்கள் சிலநேரங்களில் கணக்குகள் மற்றும் அதன் தீர்வுகளையும் வெளிப்படுத்தலாம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>
                <a:solidFill>
                  <a:srgbClr val="04617b"/>
                </a:solidFill>
                <a:latin typeface="Calibri"/>
              </a:rPr>
              <a:t>தொடக்க நிலையில் கணிதம்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974880"/>
            <a:ext cx="8356680" cy="5621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>
                <a:solidFill>
                  <a:srgbClr val="000000"/>
                </a:solidFill>
                <a:latin typeface="Constantia"/>
              </a:rPr>
              <a:t>குறியீடுகள்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Symbol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குறியீடுகளைப் பயன்படுத்திக் கணக்குகள் செய்யவும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மாதிரியாக செயல்படுத்தவும் மற்றும் பொருளாக்கம் செய்யவும் மாணவர்களுக்கு வாய்ப்புகள் வழங்கவேண்டும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ta-IN" sz="1800" spc="-1" strike="noStrike">
                <a:solidFill>
                  <a:srgbClr val="000000"/>
                </a:solidFill>
                <a:latin typeface="Constantia"/>
              </a:rPr>
              <a:t>எடுத்துக்காட்டாக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5+3=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கற்போரை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தாம் உற்றுநோக்கியவற்றைப் பொருள்பொதிந்த குறியீடுகளாக மாற்றிப் பயன்படுத்த ஊக்குவிக்கவேண்டும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இது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மாணவர்களுக்குக் கணிதக் கருத்துகளைத் தெளிவாகவும்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துல்லியமாகவும் வழங்க வழிவகை செய்கிற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மற்ற திறன்களான படித்தல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வாசித்தல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எழுதுதல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கருத்துகளை வெளிப்படுத்துதல் ஆகியவற்றுடன் இயைந்து தீர்வு காணும் திறன்களுடன் கூடிய ஒருங்கிணைந்த முறையில் வளர்ச்சி பெறவேண்டும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630360"/>
            <a:ext cx="8400960" cy="6062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Constantia"/>
              </a:rPr>
              <a:t>தொடக்க நிலையில் கணிதம்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Mathematics at  Primary Lev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தொடக்கநிலை வகுப்புகளில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அதாவது வகுப்பு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 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மற்றும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I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ல் மாணவர்கள் ஒரு மொழி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தாய்மொழி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அல்லது இருமொழியுடன் கணிதத்தையும் கற்கின்றனர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indent="4572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தங்களின் சூழலை புரிந்துகொள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ளுதல்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indent="4572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சிறப்பாக தகவலைப் பரிமாறவும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தொடர்பினை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வெளிப்படுத்தவும்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கணிதம் ஒரு கருவி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indent="4572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கணித சொற்றொடர்களை பயன்படுத்தவும் சிக்கலை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தீர்க்கும் தெரிந்திருத்தல்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569880" indent="-509400" algn="just">
              <a:lnSpc>
                <a:spcPct val="140000"/>
              </a:lnSpc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உயர்தொடக்க நிலையில் எண்ணியலைப் பொதுமைப்படுத்தி இயற்கணிதத்தைக் கற்க ஆரம்பிக்கின்றனர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69880" indent="-509400" algn="just">
              <a:lnSpc>
                <a:spcPct val="140000"/>
              </a:lnSpc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மாணவர்கள் எண்களுக்குப் பதிலாக குறியீடுகள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/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எழுத்துகள் போன்றவற்றைப் பயன்படுத்திச் சுருக்கி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பொதுமைப்படுத்துதல் மற்றும் எண்களின் அமைப்புகளை உற்றுநோக்கி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பொதுமைப்படுத்தி விதிகளையும் தேற்றங்களையும் நிறுவ முடிகிற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69880" indent="-509400" algn="just">
              <a:lnSpc>
                <a:spcPct val="140000"/>
              </a:lnSpc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இருபரிமாண மற்றும் முப்பரிமாண வடிவங்களில் விளிம்புகள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முனைகள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கோணங்கள் மற்றும் மேற்பரப்புகள் போன்றவற்றைப் பண்புகளின் அடிப்படையில் வெளிப்படுத்துதல் மற்றும் பொதுமைப்படுத்துதலை அடிப்படையாகக் கொண்டு வடிவியலைக் கற்கின்றனர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6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hape 139"/>
          <p:cNvSpPr/>
          <p:nvPr/>
        </p:nvSpPr>
        <p:spPr>
          <a:xfrm>
            <a:off x="371520" y="793800"/>
            <a:ext cx="8488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Arial"/>
              </a:rPr>
              <a:t>உயர்தொடக்க நிலையில் கணிதம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hape 139"/>
          <p:cNvSpPr/>
          <p:nvPr/>
        </p:nvSpPr>
        <p:spPr>
          <a:xfrm>
            <a:off x="222120" y="668160"/>
            <a:ext cx="8651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>
                <a:solidFill>
                  <a:srgbClr val="000000"/>
                </a:solidFill>
                <a:latin typeface="Arial"/>
              </a:rPr>
              <a:t>உயர்தொடக்க நிலையில் கணிதம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hape 140"/>
          <p:cNvSpPr/>
          <p:nvPr/>
        </p:nvSpPr>
        <p:spPr>
          <a:xfrm>
            <a:off x="779400" y="1379520"/>
            <a:ext cx="7989840" cy="5029560"/>
          </a:xfrm>
          <a:prstGeom prst="rect">
            <a:avLst/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32544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பங்கேற்றல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ஈடுபாட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ஈடுபடுதல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உற்றுநோக்கல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கருதுகோள்கள் அமைத்தல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உருவாக்கம் மற்றும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அவற்றைச் சரிபார்த்தல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சிக்கலை உருவாக்குதல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தூண்டுதல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விடுப்பத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சிக்கலைத்தீர்த்தல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காட்சிப்படுத்துதல் மற்றும் வழங்குதல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இணைப்புகளை உருவாக்குதல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மேற்கொள்ளுதல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காரணகாரிய அடிப்படையிலான வழிமுறைகள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முறையா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காரணமறிதல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கணிதக் கருத்துப் பரிமாற்றம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4617b"/>
                </a:solidFill>
                <a:latin typeface="Calibri"/>
              </a:rPr>
              <a:t>தொடக்க நிலையில் கணித மதிப்பீடு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318680"/>
            <a:ext cx="3156120" cy="51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தொடக்க வகுப்பில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ணித கற்றலை மதிப்பீடு செய்வதில் முக்கியமாக கவனிக்க வேண்டியவை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ுழந்தைகள் கணிதத்தை எவ்வாறு கற்கிறார்கள் எனப் புரிந்துக் கொள்ளுதல்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ணித கருத்துகளை புரிந்துக் கொள்ளுதல்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ணித கருத்துகளைக் குழந்தைகள் புரிந்து கொண்டதை அறிதல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7" descr=""/>
          <p:cNvPicPr/>
          <p:nvPr/>
        </p:nvPicPr>
        <p:blipFill>
          <a:blip r:embed="rId1"/>
          <a:srcRect l="15669" t="36299" r="43761" b="17347"/>
          <a:stretch/>
        </p:blipFill>
        <p:spPr>
          <a:xfrm>
            <a:off x="3597120" y="1258920"/>
            <a:ext cx="5367600" cy="51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3036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4617b"/>
                </a:solidFill>
                <a:latin typeface="Calibri"/>
              </a:rPr>
              <a:t>கற்றல்நோக்கங்கள்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(Learning objectives)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2640" y="1274400"/>
            <a:ext cx="8451720" cy="5321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கற்றல் விளைவுகளில் கொடுக்கப்பட்டுள்ள தனிப்பட்ட திறமைகளையும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திறன்களையும் மாநிலப் பாடத்திட்டத்துடன் தொடர்புபடுத்துதல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வகுப்பறைச் சூழலில்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கற்றல் விளைவுகளை அடைய குழந்தைகளுக்கு உதவும் பொருத்தமான கற்றல் செயல்பாடுகளைக் கற்பித்தல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அனைத்துக் குழந்தைகளின் கற்றல் செயல்பாடுகளைத் தொடர்ந்து கண்காணித்துக்  கற்றல் செயல்முறைகளின் மதிப்பீட்டின் மூலம் உறுதிப்படுத்துதல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25200"/>
            <a:ext cx="8385120" cy="5273640"/>
          </a:xfrm>
          <a:prstGeom prst="rect">
            <a:avLst/>
          </a:prstGeom>
          <a:gradFill rotWithShape="0">
            <a:gsLst>
              <a:gs pos="0">
                <a:srgbClr val="87eaf1"/>
              </a:gs>
              <a:gs pos="100000">
                <a:srgbClr val="f7feff"/>
              </a:gs>
            </a:gsLst>
            <a:lin ang="189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4617b"/>
                </a:solidFill>
                <a:latin typeface="Calibri"/>
              </a:rPr>
              <a:t>நன்றி</a:t>
            </a:r>
            <a:br>
              <a:rPr sz="7200"/>
            </a:b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lvl="1" marL="735120" indent="-3412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தோராயம் காணல்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120" indent="-3412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துல்லியமாக கருத்துகளைப் பரிமாறி கொள்ளுதல்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120" indent="-3412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தர்க்கரீதியாக செயல்படல்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120" indent="-3412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சிக்கலைத் தீர்த்தல்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120" indent="-3412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onstantia"/>
              </a:rPr>
              <a:t>காட்சிப்படுத்துதல்மற்றும்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வழங்குதல்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குழந்தைகளிடம் உள்ளார்ந்த ஆற்றலை மேம்படுத்தவும் சமூகத்தில் தனித்து சிந்திக்கபவராக உதவுவது கணித பாடமாகும்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Shape 116"/>
          <p:cNvSpPr/>
          <p:nvPr/>
        </p:nvSpPr>
        <p:spPr>
          <a:xfrm>
            <a:off x="609480" y="419040"/>
            <a:ext cx="6375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கணித பாடமானத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கணித திறன்கள்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65120" indent="-465120">
              <a:lnSpc>
                <a:spcPct val="2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சிக்கலைத் தீர்த்தல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120" indent="-465120">
              <a:lnSpc>
                <a:spcPct val="2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சூழலுக்கேற்றவாறு சிந்தித்தல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120" indent="-465120">
              <a:lnSpc>
                <a:spcPct val="2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onstantia"/>
              </a:rPr>
              <a:t>காட்சிப்படுத்துதல்மற்றும்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வழங்குதல்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5120" indent="-465120">
              <a:lnSpc>
                <a:spcPct val="2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கருத்து பரிமாற்றம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13920"/>
            <a:ext cx="83725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4617b"/>
                </a:solidFill>
                <a:latin typeface="Calibri"/>
              </a:rPr>
              <a:t>பள்ளியில் கணிதம் கற்பித்தலில் தொலைநோக்கு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4617b"/>
                </a:solidFill>
                <a:latin typeface="Calibri"/>
              </a:rPr>
              <a:t>-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NCF 2005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04640" indent="-404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குழந்தைகள் பயமின்றி மகிழ்ச்சியுடன் கணிதம் கற்கவேண்டும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04640" indent="-404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>
                <a:solidFill>
                  <a:srgbClr val="000000"/>
                </a:solidFill>
                <a:latin typeface="Constantia"/>
              </a:rPr>
              <a:t>குழந்தைகள்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ta-IN" sz="2000" spc="-1" strike="noStrike">
                <a:solidFill>
                  <a:srgbClr val="000000"/>
                </a:solidFill>
                <a:latin typeface="Constantia"/>
              </a:rPr>
              <a:t>இன்றியமையாத கணிதத்தைக் கற்றல்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கணிதத்தில் சூத்திரங்கள் மற்றும் இயந்திரமயமான செயல்முறைகளைத் தவிர்த்தும் கற்றுக்கொள்ள நிறைய உள்ள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04640" indent="-404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குழந்தைகள் கணிதத்தைப் பற்றி மற்றவர்களுடன் பேசுதல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கணிதத்தில் கருத்துப் பரிமாற்றம் செய்தல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கணிதத்தில் மற்றவர்களுடன் விவாதம் செய்தல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ஒருவர் மற்றவர்களோடு கணிதத்தில் இயைந்து செயல்படுதல் போன்ற திறன்கள் பெறவேண்டும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725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4617b"/>
                </a:solidFill>
                <a:latin typeface="Calibri"/>
              </a:rPr>
              <a:t>பள்ளியில் கணிதம் கற்பித்தலில் தொலைநோக்கு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4617b"/>
                </a:solidFill>
                <a:latin typeface="Calibri"/>
              </a:rPr>
              <a:t>-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NCF 2005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26800"/>
            <a:ext cx="8229600" cy="552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marL="438840" indent="-438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பொருள் பொதிந்துள்ள கணக்குகளை எதிர்கொள்ளுதல் மற்றும் தீர்வு காணல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குழந்தைகள் கணிதத் தொடர்புகளைக் கருத்தியல் நிலையில் உள்வாங்குதல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அமைப்புகளைக் கண்டுணர்தல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காரண காரியமறிதல் மற்றும் கணிதக் கூற்றில் உள்ள உண்மைத் தன்மை குறித்து விவாதம் செய்தல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குழந்தைகள் கணிதத்தின் அடிப்படை அமைப்புகளைப் புரிந்துகொள்ளுதல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எண்ணியல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இயற்கணிதம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வடிவியல்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முக்கோணவியல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பள்ளி கணிதத்தில் உள்ள அடிப்படை பாடப்பொருள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கருத்தியல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அமைப்புகள் மற்றும் பொதுமைப்படுத்துதல் இவற்றை ஒருங்கே அமையப் பெற்ற கற்பித்தல் முறை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அனைத்துக் குழந்தைகளும் கணிதம் கற்க முடியும் என்பதை உறுதி செய்யும் வகையில் ஆசிரியர் வகுப்பில் உள்ள அனைவரையும் கற்றலில் ஈடுபடுத்த  வேண்டும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7800" y="31392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4617b"/>
                </a:solidFill>
                <a:latin typeface="Calibri"/>
              </a:rPr>
              <a:t>பள்ளியில் கணிதப் பாடத்தில் உள்ள சில சிக்கல்கள்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-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NCF 2005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5360" y="1379160"/>
            <a:ext cx="8693280" cy="533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509760" indent="-5097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இரண்டு இயல் எண்ணைப் பெருக்கும்போது கிடைக்கும் எண்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பெருக்கப்பட்ட எண்களை விடப் பெரியதாக உள்ளது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ஆனால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இரு பின்ன எண்களைப் பெருக்கும்போது கிடைக்கும் எண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பெருக்கப்பட்ட எண்களைவிடச் சிறியதாக உள்ளதோ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ஏன்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?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எனக் குழந்தை புரிதலில் சிக்கல் ஏற்படுகிறது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760" indent="-5097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பெரும்பாலான குழந்தைகளுக்குக் கணிதம் குறித்த பயம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தோல்வி பற்றிய உணர்வு மிகுதியாக உள்ளது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எனவே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அக்குழந்தைகள் கணிதம் கற்பதிலிருந்து தொடக்க நிலையிலேயே சற்று விலகிச் செல்கின்றனர்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87440" y="34452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a-IN" sz="2800" spc="-1" strike="noStrike">
                <a:solidFill>
                  <a:srgbClr val="04617b"/>
                </a:solidFill>
                <a:latin typeface="Calibri"/>
              </a:rPr>
              <a:t>பள்ளியில் கணிதப் பாடத்தில் உள்ள சில சிக்கல்கள் 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-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NCF 2005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1904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marL="261720" indent="-26172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இக்கலைத் திட்டத்தில் கணிதப் பாடமானது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பங்கேற்காத மாணவர்களுக்கு மட்டுமல்லாது திறமையானவர்களுக்கும் எந்தச் சவால்களையும் வழங்காதது ஏமாற்றம் அளிக்கிற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கணக்குகள்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கணிதப் பயிற்சிகள் மற்றும் மதிப்பீட்டு முறைகள் பெரும்பாலும் இயந்திரத்தனமாகவும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மீண்டும் மீண்டும் கணக்கிடுதலையே அதிகம் வலியுறுத்துகிற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கணிதத்தின் பகுதிகள் குறிப்பாக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இடம்சார்ந்த சிந்தனைகள் வளர்க்க கணித பாடத்திட்டத்தில் போதுமான அளவு சேர்க்கப்படவில்லை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ஆசிரியர்களுக்குக் கணிதம் கற்பித்தலில் தன்னம்பிக்கை குறைவாகவும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பாடத் தயாரிப்பிற்கான போதுமான அவகாசமின்மையும்</a:t>
            </a:r>
            <a:r>
              <a:rPr b="0" lang="en-IN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உதவியும் கிடைக்காத நிலை உள்ள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4617b"/>
                </a:solidFill>
                <a:latin typeface="Calibri"/>
              </a:rPr>
              <a:t>முன்பருவக் கல்வி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ta-IN" sz="2800" spc="-1" strike="noStrike">
                <a:solidFill>
                  <a:srgbClr val="04617b"/>
                </a:solidFill>
                <a:latin typeface="Calibri"/>
              </a:rPr>
              <a:t>திறன்கள்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48800"/>
            <a:ext cx="8229600" cy="5575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marL="479160" indent="-4791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எண்சார்ந்த அறிதிறன்கள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முன்னோக்கி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பின்னோக்கி துல்லியமாக எண்ணுதல் திறன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அடிப்படை செயல்பாடுகள் வாயிலாக எண்களுக்கு இடையிலான தொடர்புகளைக் காணுதல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9160" indent="-4791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மாதிரிகள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சொற்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கள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படங்கள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…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9160" indent="-4791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இடம்சார் அறிதிறன்கள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வடிவங்கள் பற்றிய கருத்து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அளவு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இருப்பிடம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…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9160" indent="-4791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அளவைகள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நீளம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உயரம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எடை மற்றும் காலம் சார்ந்த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தங்கள் சொந்த நடையில் வெளிப்படுத்தியபின் அலகுகள் பயன்படுத்துதல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9160" indent="-4791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தோராயமாகக் கணக்கிடுதல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பொருள்களின் அளவு மற்றும் எண்ணிக்கையை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த்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தோராயமாகக் கணித்தல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916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1</dc:creator>
  <dc:description/>
  <dc:language>en-US</dc:language>
  <cp:lastModifiedBy>hp1</cp:lastModifiedBy>
  <dcterms:modified xsi:type="dcterms:W3CDTF">2019-10-01T08:01:43Z</dcterms:modified>
  <cp:revision>58</cp:revision>
  <dc:subject/>
  <dc:title>Pedagogy of Mathematics</dc:title>
</cp:coreProperties>
</file>